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BD96A-9875-487E-AACE-46E01AA23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FBFA2-6BA8-4C02-8442-12EEA40F4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07AF1-5313-417C-B88A-CF1F3FE7F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7660CA-F258-4949-B10E-8DC455A6D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3A031-F45E-42D2-8DBC-F302B47F0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6D7A2-A4E4-438D-BE2E-8D44D3EAF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AB34A-C5C7-4248-B600-348A423C7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68E8D-E098-44C6-A56B-E15B2A122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0548D-BB96-436D-8B71-9B38B5254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DC91E-F5FA-4128-9B43-D399823E9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1C446-9EB9-4A02-95F6-B56DFF272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C4BC6-485E-4D7C-B79C-C6F40689D2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82E61-B064-41A9-8811-6701EC3DA8F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abm-enterprises.net/william-shakespeare-portrait.jpg&amp;imgrefurl=http://www.abm-enterprises.net/shakespeare.htm&amp;usg=__uuwPQ8AI-wZh1Fizr9wVOzc1nPk=&amp;h=802&amp;w=800&amp;sz=351&amp;hl=en&amp;start=2&amp;um=1&amp;tbnid=O07EapXyyIejUM:&amp;tbnh=143&amp;tbnw=143&amp;prev=/images%3Fq%3Dwho%2Bwas%2Bwilliam%2Bshakespeare%26hl%3Den%26sa%3DN%26um%3D1"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springfield.k12.il.us/schools/springfield/eliz/images/ElizLifeb&amp;imgrefurl=http://www.springfield.k12.il.us/schools/springfield/eliz/elizabethanengland.html&amp;usg=__UQzbt7clULnrJtCNna5BFHU-IxQ=&amp;h=600&amp;w=557&amp;sz=144&amp;hl=en&amp;start=3&amp;um=1&amp;tbnid=RwIYEj2T-X2a_M:&amp;tbnh=135&amp;tbnw=125&amp;prev=/images%3Fq%3DElizabethan%2BEngland%26hl%3Den%26sa%3DG%26um%3D1"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wbopera.org/0506/Manon/show/graphics/Madrigal.jpg&amp;imgrefurl=http://www.wbopera.org/0506/Manon/show/index.html&amp;usg=__XbyMu22sTC_o6RLsw4eBCW7D0jI=&amp;h=488&amp;w=730&amp;sz=113&amp;hl=en&amp;start=4&amp;tbnid=AWLwVEe4TtH5XM:&amp;tbnh=94&amp;tbnw=141&amp;prev=/images%3Fq%3Dmadrigal%26gbv%3D2%26hl%3Den%26sa%3D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historyonthenet.com/Tudors/images/earlytudorcostume.gif&amp;imgrefurl=http://www.historyonthenet.com/Tudors/tudor_costume.htm&amp;usg=__vrhtlw51_jB1B-SSj_WHXzZLSp4=&amp;h=216&amp;w=306&amp;sz=6&amp;hl=en&amp;start=10&amp;tbnid=jDBivxvjZUSRKM:&amp;tbnh=83&amp;tbnw=117&amp;prev=/images%3Fq%3DElizabethan%2Bmen%2Bclothing%26gbv%3D2%26hl%3Den"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jerichoschools.org/hs/webquest/images/globe%2520theater.JPG&amp;imgrefurl=http://www.jerichoschools.org/hs/webquest/shakespeare.htm&amp;usg=__BLm-cqEZM3B_RXPq6eW-jso7vHA=&amp;h=300&amp;w=455&amp;sz=187&amp;hl=en&amp;start=29&amp;tbnid=GitJW_22ZeDKJM:&amp;tbnh=84&amp;tbnw=128&amp;prev=/images%3Fq%3DGlobe%2Btheater%26gbv%3D2%26ndsp%3D20%26hl%3Den%26sa%3DN%26start%3D20" TargetMode="External"/><Relationship Id="rId2" Type="http://schemas.openxmlformats.org/officeDocument/2006/relationships/image" Target="../media/image5.jpeg"/><Relationship Id="rId3" Type="http://schemas.openxmlformats.org/officeDocument/2006/relationships/hyperlink" Target="http://images.google.com/imgres?imgurl=http://www.saintannparish.com/school/webliz/elizabethantheater/theater.gif&amp;imgrefurl=http://www.saintannparish.com/school/webliz/elizabethantheater/elizabethantheaaterindex.htm&amp;usg=__cl4_Gwdur6HDGKarQSrFU_0Mw6M=&amp;h=378&amp;w=411&amp;sz=82&amp;hl=en&amp;start=25&amp;tbnid=3moyiCk2ejW-4M:&amp;tbnh=115&amp;tbnw=125&amp;prev=/images%3Fq%3DGlobe%2Btheater%26gbv%3D2%26ndsp%3D20%26hl%3Den%26sa%3DN%26start%3D20" TargetMode="External"/><Relationship Id="rId4" Type="http://schemas.openxmlformats.org/officeDocument/2006/relationships/image" Target="../media/image6.jpeg"/><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Group 1</a:t>
            </a:r>
            <a:endParaRPr b="0" lang="en-US" sz="6600" spc="-1" strike="noStrike">
              <a:solidFill>
                <a:srgbClr val="ffffff"/>
              </a:solidFill>
              <a:latin typeface="Arial"/>
            </a:endParaRPr>
          </a:p>
        </p:txBody>
      </p:sp>
      <p:sp>
        <p:nvSpPr>
          <p:cNvPr id="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was the man William Shakespeare? What unique about his birthday? What was his life like? What is he known for? What mystery surrounds his identity?</a:t>
            </a:r>
            <a:endParaRPr b="0" lang="en-US" sz="2800" spc="-1" strike="noStrike">
              <a:solidFill>
                <a:srgbClr val="ffffff"/>
              </a:solidFill>
              <a:latin typeface="Arial"/>
            </a:endParaRPr>
          </a:p>
        </p:txBody>
      </p:sp>
      <p:pic>
        <p:nvPicPr>
          <p:cNvPr id="43" name="" descr="">
            <a:hlinkClick r:id="rId1"/>
          </p:cNvPr>
          <p:cNvPicPr/>
          <p:nvPr/>
        </p:nvPicPr>
        <p:blipFill>
          <a:blip r:embed="rId2"/>
          <a:stretch/>
        </p:blipFill>
        <p:spPr>
          <a:xfrm>
            <a:off x="4572000" y="1447920"/>
            <a:ext cx="4572000" cy="541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up 2</a:t>
            </a:r>
            <a:endParaRPr b="0" lang="en-US" sz="4400" spc="-1" strike="noStrike">
              <a:solidFill>
                <a:srgbClr val="ffffff"/>
              </a:solidFill>
              <a:latin typeface="Arial"/>
            </a:endParaRPr>
          </a:p>
        </p:txBody>
      </p:sp>
      <p:sp>
        <p:nvSpPr>
          <p:cNvPr id="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as life like in Elizabethan England? What was the social ranking? Jobs? Pastimes/recreation? Education? Religion?</a:t>
            </a:r>
            <a:endParaRPr b="0" lang="en-US" sz="2800" spc="-1" strike="noStrike">
              <a:solidFill>
                <a:srgbClr val="ffffff"/>
              </a:solidFill>
              <a:latin typeface="Arial"/>
            </a:endParaRPr>
          </a:p>
        </p:txBody>
      </p:sp>
      <p:pic>
        <p:nvPicPr>
          <p:cNvPr id="46" name="" descr="">
            <a:hlinkClick r:id="rId1"/>
          </p:cNvPr>
          <p:cNvPicPr/>
          <p:nvPr/>
        </p:nvPicPr>
        <p:blipFill>
          <a:blip r:embed="rId2"/>
          <a:stretch/>
        </p:blipFill>
        <p:spPr>
          <a:xfrm>
            <a:off x="4572000" y="1600200"/>
            <a:ext cx="4191120" cy="480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up 3</a:t>
            </a:r>
            <a:endParaRPr b="0" lang="en-US" sz="4400" spc="-1" strike="noStrike">
              <a:solidFill>
                <a:srgbClr val="ffffff"/>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as the music of the Elizabethan era like? Famous composers? Instruments? Dances?</a:t>
            </a:r>
            <a:endParaRPr b="0" lang="en-US" sz="2800" spc="-1" strike="noStrike">
              <a:solidFill>
                <a:srgbClr val="ffffff"/>
              </a:solidFill>
              <a:latin typeface="Arial"/>
            </a:endParaRPr>
          </a:p>
        </p:txBody>
      </p:sp>
      <p:pic>
        <p:nvPicPr>
          <p:cNvPr id="49" name="" descr="">
            <a:hlinkClick r:id="rId1"/>
          </p:cNvPr>
          <p:cNvPicPr/>
          <p:nvPr/>
        </p:nvPicPr>
        <p:blipFill>
          <a:blip r:embed="rId2"/>
          <a:stretch/>
        </p:blipFill>
        <p:spPr>
          <a:xfrm>
            <a:off x="4800600" y="1295280"/>
            <a:ext cx="4343400" cy="556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up 4</a:t>
            </a:r>
            <a:endParaRPr b="0" lang="en-US" sz="4400" spc="-1" strike="noStrike">
              <a:solidFill>
                <a:srgbClr val="ffffff"/>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has Shakespeare influenced life today? What famous quotes are attributed to him? From what plays are some of his most famous quotes? Five examples of modern or contemporary films based on Shakespeare’s work. What modern words did Shakespeare invent?</a:t>
            </a:r>
            <a:endParaRPr b="0" lang="en-US" sz="2800" spc="-1" strike="noStrike">
              <a:solidFill>
                <a:srgbClr val="ffffff"/>
              </a:solidFill>
              <a:latin typeface="Arial"/>
            </a:endParaRPr>
          </a:p>
        </p:txBody>
      </p:sp>
      <p:sp>
        <p:nvSpPr>
          <p:cNvPr id="5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ccommodati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erial</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mazement</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postroph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ssassinati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uspiciou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baseles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bloody</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astigat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up 5</a:t>
            </a:r>
            <a:endParaRPr b="0" lang="en-US" sz="4400" spc="-1" strike="noStrike">
              <a:solidFill>
                <a:srgbClr val="ffffff"/>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as Elizabethan language like? How similar/different is it from today’s language? How does one insult another person in Elizabethan language? Give examp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up 6</a:t>
            </a:r>
            <a:endParaRPr b="0" lang="en-US" sz="4400" spc="-1" strike="noStrike">
              <a:solidFill>
                <a:srgbClr val="ffffff"/>
              </a:solidFill>
              <a:latin typeface="Arial"/>
            </a:endParaRPr>
          </a:p>
        </p:txBody>
      </p:sp>
      <p:sp>
        <p:nvSpPr>
          <p:cNvPr id="56" name="PlaceHolder 2"/>
          <p:cNvSpPr>
            <a:spLocks noGrp="1"/>
          </p:cNvSpPr>
          <p:nvPr>
            <p:ph/>
          </p:nvPr>
        </p:nvSpPr>
        <p:spPr>
          <a:xfrm>
            <a:off x="457200" y="1600200"/>
            <a:ext cx="26668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as the dress of Elizabethan England? What was the fashion of the time? How did dress differ based on social status? Fabric? Comfort? Hygiene?</a:t>
            </a:r>
            <a:endParaRPr b="0" lang="en-US" sz="2400" spc="-1" strike="noStrike">
              <a:solidFill>
                <a:srgbClr val="ffffff"/>
              </a:solidFill>
              <a:latin typeface="Arial"/>
            </a:endParaRPr>
          </a:p>
        </p:txBody>
      </p:sp>
      <p:sp>
        <p:nvSpPr>
          <p:cNvPr id="57"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 name="" descr="">
            <a:hlinkClick r:id="rId1"/>
          </p:cNvPr>
          <p:cNvPicPr/>
          <p:nvPr/>
        </p:nvPicPr>
        <p:blipFill>
          <a:blip r:embed="rId2"/>
          <a:stretch/>
        </p:blipFill>
        <p:spPr>
          <a:xfrm>
            <a:off x="3124080" y="1219320"/>
            <a:ext cx="6019920" cy="5638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up 7</a:t>
            </a:r>
            <a:endParaRPr b="0" lang="en-US" sz="4400" spc="-1" strike="noStrike">
              <a:solidFill>
                <a:srgbClr val="ffffff"/>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as the Globe theater? What other playhouses were popular at that time? What was the layout of the theater? Cost? Lighting? Hosting? Actors? Histor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1" name="" descr="">
            <a:hlinkClick r:id="rId1"/>
          </p:cNvPr>
          <p:cNvPicPr/>
          <p:nvPr/>
        </p:nvPicPr>
        <p:blipFill>
          <a:blip r:embed="rId2"/>
          <a:stretch/>
        </p:blipFill>
        <p:spPr>
          <a:xfrm>
            <a:off x="4876920" y="1447920"/>
            <a:ext cx="3962160" cy="2286000"/>
          </a:xfrm>
          <a:prstGeom prst="rect">
            <a:avLst/>
          </a:prstGeom>
          <a:ln w="0">
            <a:noFill/>
          </a:ln>
        </p:spPr>
      </p:pic>
      <p:pic>
        <p:nvPicPr>
          <p:cNvPr id="62" name="" descr="">
            <a:hlinkClick r:id="rId3"/>
          </p:cNvPr>
          <p:cNvPicPr/>
          <p:nvPr/>
        </p:nvPicPr>
        <p:blipFill>
          <a:blip r:embed="rId4"/>
          <a:stretch/>
        </p:blipFill>
        <p:spPr>
          <a:xfrm>
            <a:off x="4648320" y="4484520"/>
            <a:ext cx="4190760" cy="214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up 8</a:t>
            </a:r>
            <a:endParaRPr b="0" lang="en-US" sz="4400" spc="-1" strike="noStrike">
              <a:solidFill>
                <a:srgbClr val="ffffff"/>
              </a:solidFill>
              <a:latin typeface="Arial"/>
            </a:endParaRPr>
          </a:p>
        </p:txBody>
      </p:sp>
      <p:sp>
        <p:nvSpPr>
          <p:cNvPr id="64" name="PlaceHolder 2"/>
          <p:cNvSpPr>
            <a:spLocks noGrp="1"/>
          </p:cNvSpPr>
          <p:nvPr>
            <p:ph/>
          </p:nvPr>
        </p:nvSpPr>
        <p:spPr>
          <a:xfrm>
            <a:off x="0" y="685800"/>
            <a:ext cx="4038480" cy="4525920"/>
          </a:xfrm>
          <a:prstGeom prst="rect">
            <a:avLst/>
          </a:prstGeom>
          <a:noFill/>
          <a:ln w="0">
            <a:noFill/>
          </a:ln>
        </p:spPr>
        <p:txBody>
          <a:bodyPr lIns="90000" rIns="90000" tIns="46800" bIns="46800" anchor="t">
            <a:normAutofit fontScale="86000"/>
          </a:bodyPr>
          <a:p>
            <a:pPr marL="294840" indent="-294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did Shakespeare write Romeo and Juliet? Where did he get his inspiration? Does the city of Verona really exist? Where is it located? What was an Elizabethan wedding like? What age did the traditionally get married? What foods would they eat at a traditional wedding?</a:t>
            </a:r>
            <a:endParaRPr b="0" lang="en-US" sz="2800" spc="-1" strike="noStrike">
              <a:solidFill>
                <a:srgbClr val="ffffff"/>
              </a:solidFill>
              <a:latin typeface="Arial"/>
            </a:endParaRPr>
          </a:p>
        </p:txBody>
      </p:sp>
      <p:pic>
        <p:nvPicPr>
          <p:cNvPr id="65" name="" descr=""/>
          <p:cNvPicPr/>
          <p:nvPr/>
        </p:nvPicPr>
        <p:blipFill>
          <a:blip r:embed="rId1"/>
          <a:stretch/>
        </p:blipFill>
        <p:spPr>
          <a:xfrm>
            <a:off x="4724280" y="1143000"/>
            <a:ext cx="3962520" cy="525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1T13:05:38Z</dcterms:created>
  <dc:creator>rebecca</dc:creator>
  <dc:description/>
  <dc:language>en-US</dc:language>
  <cp:lastModifiedBy>rebecca</cp:lastModifiedBy>
  <dcterms:modified xsi:type="dcterms:W3CDTF">2009-03-31T15:04:47Z</dcterms:modified>
  <cp:revision>3</cp:revision>
  <dc:subject/>
  <dc:title>Group 1</dc:title>
</cp:coreProperties>
</file>